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3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3.png" ContentType="image/png"/>
  <Override PartName="/ppt/media/image26.png" ContentType="image/png"/>
  <Override PartName="/ppt/media/image1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DE0A-C3C0-4322-9B29-5F360D3E2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B868-BA70-451F-AE7B-C2630DAF9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7796-86CE-4960-89C9-FB672E6FE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D33F-0296-4138-B505-51DD8D516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AD432-EF61-454D-8099-4050BEEEE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CC438-E82C-49E7-962C-E0E8D9772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D3C05-87A3-4A5C-B43D-B8EBD67A3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8A53E-C61B-42EF-9CCA-3551B0623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53822-EE4A-41F3-A8F6-F335C03FE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48AF0-F958-4CD0-A42B-28EDE0926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061F8-CBAA-4774-A49E-98332D2DB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CA35-232A-4882-81CE-3683F38BB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D4507-120A-4E55-9047-A32C17DB0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9B39E-2774-4A99-AC50-49C507393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55F8B-179C-4098-B8E0-83B978940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C08D5-0DFF-4BA0-A7C3-6C57F40CD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ECD3E-F4FA-4CC2-A429-E63EF0A23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48E89C-4FEA-4827-8C2C-DBDA3272B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C3B023-6507-4A31-9DD0-AA3C0DBD4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0840A6-144E-472D-B69E-F23292BC5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0AECFE-D011-4E50-B3CE-85812EE80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A07C02-62A5-4A51-9A6D-C33AC4F54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42EA-0179-4BAB-996C-80158CD17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F3B4A7-1E6A-4C3F-9F88-1FECE4BCB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2CAA72-6711-4098-90A8-4985D2236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19D146-CD24-4B7A-AC99-0D0955B87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420443-468A-4D9F-BA6C-6BAEA31A1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5DB8FB-EC32-443A-BFE8-9FDD0D070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8A92CF-03F6-4124-AC48-668E9CBAA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5CD960-69A6-4384-B3BB-43F093F0D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C38AAB-3782-4B68-A790-C47FE547B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4AE8BC-EF75-4A2E-94E5-A53FC0ED0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48E372-19D0-4AAF-9C1E-982BA66DE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0C9F-C287-456C-972A-99A4A6E80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C1F384-1527-4C26-AA37-CFC3F1079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05D2AD-1C74-452E-B0DF-0207CF3DE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E7A554-B47C-432D-BBF7-4848E0CCD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5002DC-8943-4392-8549-F2A5B835D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E683C9-9C38-418A-A8D1-142B88F1D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613CD1-06CF-4C61-B83B-791D1D682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ED52C4-0D53-493C-B02A-2D633AD0B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41A52E-617A-4922-9FB4-4E93C87AE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8C4BF8-3A54-49BF-A96D-D1D39BCED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A9F6-0D06-45B8-B060-63CE1F1FE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41BA-1674-4544-99EE-C43286DB4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EBE4-04C1-41EC-8F0B-4CF5566A0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E731-6C96-41D9-8010-68E53BAC2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DBAA-862A-45CE-BA83-BB914BCA8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24BA3-26F2-458C-ADD7-02DDA5FE4A46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960B3-5394-45AF-9D04-7BFDB9785668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72743-9C2C-401C-841E-85E099E84020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85538-CA4F-4961-B564-DB356C196E83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536400" y="1371600"/>
            <a:ext cx="8302680" cy="232236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Respiratory System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“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I Can” Quiz - Respira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 Can Quiz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1.  Explain the function of the respiratory system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2.  What are at least 5 organs found in the respiratory system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3.  What is the function of the alveoli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4.  Draw the path that air takes through the respiratory system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Answers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533520" y="12189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. The respiratory system provides oxygen to the body and helps remove carbon dioxid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2.  nasal cavity, pharynx, larynx, epiglotis, trachea, bronchi, bronchioles, alveoli, lungs, diaphra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3.  alveoli are the site of gas exchange between the respiratory and circulatory system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4.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0" name="Picture 6" descr="http://www.emc.maricopa.edu/faculty/farabee/biobk/humrespsys_1.gif"/>
          <p:cNvPicPr/>
          <p:nvPr/>
        </p:nvPicPr>
        <p:blipFill>
          <a:blip r:embed="rId1"/>
          <a:stretch/>
        </p:blipFill>
        <p:spPr>
          <a:xfrm>
            <a:off x="1295280" y="3962520"/>
            <a:ext cx="2897280" cy="24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Respiration Overview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ll of your body’s cells require oxygen (remember, oxygen and glucose are used by your cells during </a:t>
            </a: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cellular respiration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o make ATP or energy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The respiratory system supplies oxygen and removes carbon dioxide from your bod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9" name="Picture 6" descr="https://encrypted-tbn2.gstatic.com/images?q=tbn:ANd9GcQwEyEwW5B_ACHi8Qlm_lTm6GXu1FczKVFCz-GheY_mA26q2lsk6A"/>
          <p:cNvPicPr/>
          <p:nvPr/>
        </p:nvPicPr>
        <p:blipFill>
          <a:blip r:embed="rId1"/>
          <a:stretch/>
        </p:blipFill>
        <p:spPr>
          <a:xfrm>
            <a:off x="6553080" y="1523880"/>
            <a:ext cx="2438640" cy="18288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8" descr="https://encrypted-tbn3.gstatic.com/images?q=tbn:ANd9GcQIalf4d-mmMCk3ngJoSBGml-iD_Fjdk8EWdZ30jf3kjbOVA8fPHWULEP3c"/>
          <p:cNvPicPr/>
          <p:nvPr/>
        </p:nvPicPr>
        <p:blipFill>
          <a:blip r:embed="rId2"/>
          <a:stretch/>
        </p:blipFill>
        <p:spPr>
          <a:xfrm>
            <a:off x="5257800" y="3581280"/>
            <a:ext cx="2971800" cy="2793960"/>
          </a:xfrm>
          <a:prstGeom prst="rect">
            <a:avLst/>
          </a:prstGeom>
          <a:ln w="0">
            <a:noFill/>
          </a:ln>
        </p:spPr>
      </p:pic>
      <p:sp>
        <p:nvSpPr>
          <p:cNvPr id="201" name="AutoShape 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9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11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Overview cont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The respiratory system is made up of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: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Nasal passag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Pharynx (upper throat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Larynx (voice box),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piglottis (a flap of tissue that keeps food from getting into the windpipe/trachea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rachea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lungs,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Bronchi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Bronchiol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lveoli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Diaphragm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6" name="Picture 6" descr="http://www.emc.maricopa.edu/faculty/farabee/biobk/humrespsys_1.gif"/>
          <p:cNvPicPr/>
          <p:nvPr/>
        </p:nvPicPr>
        <p:blipFill>
          <a:blip r:embed="rId1"/>
          <a:stretch/>
        </p:blipFill>
        <p:spPr>
          <a:xfrm>
            <a:off x="5334120" y="304920"/>
            <a:ext cx="3582720" cy="304776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8" descr="https://encrypted-tbn2.gstatic.com/images?q=tbn:ANd9GcT1Q8mr59XSew1T29X-BXVdVpOg3BDeeENoa9Tqn8tTDFkLZmeL"/>
          <p:cNvPicPr/>
          <p:nvPr/>
        </p:nvPicPr>
        <p:blipFill>
          <a:blip r:embed="rId2"/>
          <a:stretch/>
        </p:blipFill>
        <p:spPr>
          <a:xfrm>
            <a:off x="6019920" y="3505320"/>
            <a:ext cx="2485800" cy="29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The Path of Ai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First, air enters the mouth or nose.  Hairs in the nose filter out dust and other large particles in the air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Hair-like structures called 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cilia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line the nasal passage (and other respiratory tubes), and trap foreign particles from the air and sweep them toward the throat so that they don’t enter the lungs.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Mucous membranes beneath the cilia in the nasal massage warm and moisten the air while trapping foreign material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Picture 6" descr="https://encrypted-tbn0.gstatic.com/images?q=tbn:ANd9GcS7Biq6ZDrOgm1zNlPBQk_cUOetYzkwuAgGbY8-g5lTAaopBMtt"/>
          <p:cNvPicPr/>
          <p:nvPr/>
        </p:nvPicPr>
        <p:blipFill>
          <a:blip r:embed="rId1"/>
          <a:stretch/>
        </p:blipFill>
        <p:spPr>
          <a:xfrm>
            <a:off x="4495680" y="4114800"/>
            <a:ext cx="3411720" cy="27432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8" descr="https://encrypted-tbn2.gstatic.com/images?q=tbn:ANd9GcQM8ywlHDU6WoXMRRPg25aApxLJ5_B4bnws7b2USiQ4-7sBdEoQ8Q"/>
          <p:cNvPicPr/>
          <p:nvPr/>
        </p:nvPicPr>
        <p:blipFill>
          <a:blip r:embed="rId2"/>
          <a:stretch/>
        </p:blipFill>
        <p:spPr>
          <a:xfrm>
            <a:off x="6629400" y="1905120"/>
            <a:ext cx="2300400" cy="16491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0" descr="https://encrypted-tbn2.gstatic.com/images?q=tbn:ANd9GcRD5e9YPRqzAlbXPqLt8bDBMfPsAKTBLIS2nNjmWfubC8GJfj7-"/>
          <p:cNvPicPr/>
          <p:nvPr/>
        </p:nvPicPr>
        <p:blipFill>
          <a:blip r:embed="rId3"/>
          <a:stretch/>
        </p:blipFill>
        <p:spPr>
          <a:xfrm>
            <a:off x="4648320" y="152280"/>
            <a:ext cx="1251000" cy="152424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2" descr="http://sitik.files.wordpress.com/2010/09/sinusitis3.jpg?w=300&amp;h=203"/>
          <p:cNvPicPr/>
          <p:nvPr/>
        </p:nvPicPr>
        <p:blipFill>
          <a:blip r:embed="rId4"/>
          <a:stretch/>
        </p:blipFill>
        <p:spPr>
          <a:xfrm>
            <a:off x="6781680" y="152280"/>
            <a:ext cx="1914480" cy="129564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4" descr="http://sitik.files.wordpress.com/2010/09/sinusitis4.jpg?w=300&amp;h=203"/>
          <p:cNvPicPr/>
          <p:nvPr/>
        </p:nvPicPr>
        <p:blipFill>
          <a:blip r:embed="rId5"/>
          <a:stretch/>
        </p:blipFill>
        <p:spPr>
          <a:xfrm>
            <a:off x="4648320" y="1981080"/>
            <a:ext cx="19144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ath of Air cont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The filtered air now passes through the upper throat (the </a:t>
            </a:r>
            <a:r>
              <a:rPr b="0" lang="en-US" sz="2200" spc="-1" strike="noStrike">
                <a:solidFill>
                  <a:srgbClr val="ff0000"/>
                </a:solidFill>
                <a:latin typeface="Constantia"/>
              </a:rPr>
              <a:t>pharynx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).  A flap of tissue called the </a:t>
            </a:r>
            <a:r>
              <a:rPr b="0" lang="en-US" sz="2200" spc="-1" strike="noStrike">
                <a:solidFill>
                  <a:srgbClr val="ff0000"/>
                </a:solidFill>
                <a:latin typeface="Constantia"/>
              </a:rPr>
              <a:t>epiglottis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prevents food particles from entering the respiratory tubes (like the larynx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The epiglottis allows air to pass from the larynx to a long tube in the chest called the </a:t>
            </a:r>
            <a:r>
              <a:rPr b="0" lang="en-US" sz="2200" spc="-1" strike="noStrike">
                <a:solidFill>
                  <a:srgbClr val="ff0000"/>
                </a:solidFill>
                <a:latin typeface="Constantia"/>
              </a:rPr>
              <a:t>trachea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(or windpipe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7" name="Picture 8" descr="http://www.theresourcesolutions.com/topics/human_body/images/where_55.jpg"/>
          <p:cNvPicPr/>
          <p:nvPr/>
        </p:nvPicPr>
        <p:blipFill>
          <a:blip r:embed="rId1"/>
          <a:stretch/>
        </p:blipFill>
        <p:spPr>
          <a:xfrm>
            <a:off x="4419720" y="1066680"/>
            <a:ext cx="4471920" cy="36576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0" descr="https://encrypted-tbn0.gstatic.com/images?q=tbn:ANd9GcSfe3vIg5MjtmMz87VXHDaPenCw0HpIwdhDrr-8dz3JjVzg7AFNfw"/>
          <p:cNvPicPr/>
          <p:nvPr/>
        </p:nvPicPr>
        <p:blipFill>
          <a:blip r:embed="rId2"/>
          <a:stretch/>
        </p:blipFill>
        <p:spPr>
          <a:xfrm>
            <a:off x="5715000" y="4952880"/>
            <a:ext cx="2133720" cy="15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ath of air cont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The trachea branches into two large tubes, called </a:t>
            </a:r>
            <a:r>
              <a:rPr b="0" lang="en-US" sz="1900" spc="-1" strike="noStrike">
                <a:solidFill>
                  <a:srgbClr val="ff0000"/>
                </a:solidFill>
                <a:latin typeface="Constantia"/>
              </a:rPr>
              <a:t>bronchi </a:t>
            </a: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(singular is bronchus), which lead to the lungs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The lungs are the largest organs in the respiratory system, and this is where gas exchange takes place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Each bronchus branches into smaller tubes called </a:t>
            </a:r>
            <a:r>
              <a:rPr b="0" lang="en-US" sz="1900" spc="-1" strike="noStrike">
                <a:solidFill>
                  <a:srgbClr val="ff0000"/>
                </a:solidFill>
                <a:latin typeface="Constantia"/>
              </a:rPr>
              <a:t>bronchioles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Bronchioles branch into even smaller passageways which end in an individual air sac called an </a:t>
            </a:r>
            <a:r>
              <a:rPr b="0" lang="en-US" sz="1900" spc="-1" strike="noStrike">
                <a:solidFill>
                  <a:srgbClr val="ff0000"/>
                </a:solidFill>
                <a:latin typeface="Constantia"/>
              </a:rPr>
              <a:t>alveoli</a:t>
            </a: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 (alveolus singular)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Each alveolus has a thin wall – only one cell thick – and is surrounded by </a:t>
            </a:r>
            <a:r>
              <a:rPr b="0" lang="en-US" sz="1900" spc="-1" strike="noStrike">
                <a:solidFill>
                  <a:srgbClr val="ff0000"/>
                </a:solidFill>
                <a:latin typeface="Constantia"/>
              </a:rPr>
              <a:t>capillaries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1" name="Picture 6" descr="https://encrypted-tbn0.gstatic.com/images?q=tbn:ANd9GcR29D5P_9CC3F3rw9c7oqoYCN4mI7thdTuDhJyxRIXnCJuIaVyXyw"/>
          <p:cNvPicPr/>
          <p:nvPr/>
        </p:nvPicPr>
        <p:blipFill>
          <a:blip r:embed="rId1"/>
          <a:stretch/>
        </p:blipFill>
        <p:spPr>
          <a:xfrm>
            <a:off x="7048440" y="762120"/>
            <a:ext cx="2095560" cy="19047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8" descr="https://encrypted-tbn1.gstatic.com/images?q=tbn:ANd9GcQAhbWlkyE4n28vSReZmucq6liORYuwod2Z4IFUsN85CIkpfYs8"/>
          <p:cNvPicPr/>
          <p:nvPr/>
        </p:nvPicPr>
        <p:blipFill>
          <a:blip r:embed="rId2"/>
          <a:stretch/>
        </p:blipFill>
        <p:spPr>
          <a:xfrm>
            <a:off x="4800600" y="2743200"/>
            <a:ext cx="2333520" cy="195264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0" descr="https://encrypted-tbn1.gstatic.com/images?q=tbn:ANd9GcTkm-b9-B04y6lXWRnuzQ0pC17q_-PkUALGtxSn8QryeZso8qwJyw"/>
          <p:cNvPicPr/>
          <p:nvPr/>
        </p:nvPicPr>
        <p:blipFill>
          <a:blip r:embed="rId3"/>
          <a:stretch/>
        </p:blipFill>
        <p:spPr>
          <a:xfrm>
            <a:off x="7010280" y="4343400"/>
            <a:ext cx="2028960" cy="224784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2" descr="https://encrypted-tbn2.gstatic.com/images?q=tbn:ANd9GcRaryZyaSKdkHMaGvgw-qzBvAuwR3KoUsksxVO2I3MCG3qd4BrE"/>
          <p:cNvPicPr/>
          <p:nvPr/>
        </p:nvPicPr>
        <p:blipFill>
          <a:blip r:embed="rId4"/>
          <a:stretch/>
        </p:blipFill>
        <p:spPr>
          <a:xfrm>
            <a:off x="4572000" y="76212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4" descr="http://content.karger.com/ProdukteDB/Katalogteile/isbn3_8055/_68/_62/samples/images/samp1_l.jpg"/>
          <p:cNvPicPr/>
          <p:nvPr/>
        </p:nvPicPr>
        <p:blipFill>
          <a:blip r:embed="rId5"/>
          <a:stretch/>
        </p:blipFill>
        <p:spPr>
          <a:xfrm>
            <a:off x="4343400" y="4876920"/>
            <a:ext cx="2381400" cy="16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Gas Exchange in the Lung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Air travels to individual alveoli, where oxygen diffuses across the thin capillary walls and into the blood cel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oxygen is then taken to cells in the bod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Carbon dioxide in the blood crosses the capillary walls and diffuses into the alveoli to be exhale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8" name="Picture 8" descr="http://diatronic.co.uk/nds/webpub/resp_memb.jpg"/>
          <p:cNvPicPr/>
          <p:nvPr/>
        </p:nvPicPr>
        <p:blipFill>
          <a:blip r:embed="rId1"/>
          <a:stretch/>
        </p:blipFill>
        <p:spPr>
          <a:xfrm>
            <a:off x="5791320" y="3619440"/>
            <a:ext cx="2209680" cy="323856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0" descr="https://encrypted-tbn1.gstatic.com/images?q=tbn:ANd9GcQxtrI_Tz3h-S9eEEiwVB5aH_c9yhOa44pmLGYY7YcY0Zyxw2Jd"/>
          <p:cNvPicPr/>
          <p:nvPr/>
        </p:nvPicPr>
        <p:blipFill>
          <a:blip r:embed="rId2"/>
          <a:stretch/>
        </p:blipFill>
        <p:spPr>
          <a:xfrm>
            <a:off x="5638680" y="1752480"/>
            <a:ext cx="264816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Breathing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0000"/>
                </a:solidFill>
                <a:latin typeface="Constantia"/>
              </a:rPr>
              <a:t>The brain controls the rate of breathing 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by responding to internal stimuli that tell how much oxygen the body needs.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0000"/>
                </a:solidFill>
                <a:latin typeface="Constantia"/>
              </a:rPr>
              <a:t>When you have lots of CO2 in your blood, your breathing rate increases 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(because your cells need more oxygen)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0000"/>
                </a:solidFill>
                <a:latin typeface="Constantia"/>
              </a:rPr>
              <a:t>During inhalation (taking in oxygen), your diaphragm contracts, which causes the chest cavity to expand as the diaphragm moves down.  This allows air to move into the lungs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0000"/>
                </a:solidFill>
                <a:latin typeface="Constantia"/>
              </a:rPr>
              <a:t>In exhalation, the diaphragm relaxes, reduces the size of the chest cavity and air naturally flows out from the greater pressure of the lungs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2" name="Picture 6" descr="https://encrypted-tbn3.gstatic.com/images?q=tbn:ANd9GcSfW3wenbX78wqBDXjK2HzmSu_gNa-TZ5yqy1ZsJvAuL87uhYcd"/>
          <p:cNvPicPr/>
          <p:nvPr/>
        </p:nvPicPr>
        <p:blipFill>
          <a:blip r:embed="rId1"/>
          <a:stretch/>
        </p:blipFill>
        <p:spPr>
          <a:xfrm>
            <a:off x="5791320" y="533520"/>
            <a:ext cx="2876400" cy="287640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0" descr="http://www.freediving.biz/photo2/breathing.gif"/>
          <p:cNvPicPr/>
          <p:nvPr/>
        </p:nvPicPr>
        <p:blipFill>
          <a:blip r:embed="rId2"/>
          <a:stretch/>
        </p:blipFill>
        <p:spPr>
          <a:xfrm>
            <a:off x="5257800" y="3505320"/>
            <a:ext cx="3314880" cy="28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Assignment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9047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raw a Venn Diagram that illustrates THREE differences and similarities between the respiratory system and circulatory syste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ll in Venn diagram as we watch the following video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ttp://www.youtube.com/watch?v=9fxm85Fy4sQ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9T20:17:35Z</dcterms:created>
  <dc:creator>byrds</dc:creator>
  <dc:description/>
  <dc:language>en-US</dc:language>
  <cp:lastModifiedBy>Ryan Edel</cp:lastModifiedBy>
  <dcterms:modified xsi:type="dcterms:W3CDTF">2013-12-12T21:36:52Z</dcterms:modified>
  <cp:revision>358</cp:revision>
  <dc:subject/>
  <dc:title>Unit 2 Notes</dc:title>
</cp:coreProperties>
</file>